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8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54640" cy="4308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4144680" y="9119880"/>
            <a:ext cx="3159000" cy="468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C165D-83CC-4F36-897D-718BC6FBA56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05265-629A-47E8-B1E5-CA70D257C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5DF0D-0E28-42F8-94CD-493492D8F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065A8-74D6-42A6-A1CE-971A378C5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F5A0E-7F82-47A8-9A36-75D820BBF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6F709-EF6B-4250-A69E-DE58638C6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7B877-37BC-4080-9A20-0A97E29E0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C072F-2F0C-46A5-AE54-56FA65BA1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1DE3A-BC6E-49BD-8DA7-462D47B4C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B79B3-9DF6-46EF-945D-4B38366723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702F8-C0D3-45B1-94C9-4A2D0E14D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5060-EEC5-48DE-A7BC-FFBA63BE2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452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3E23-F6C3-4204-9F14-031B646D9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360" y="19807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45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360" y="41245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C4F2-5815-42C0-B904-BD6091BD1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480" y="198072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3520" y="198072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452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480" y="412452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3520" y="412452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4785-A2A9-41EC-AB5A-2A7EFB80F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101D-74BE-433F-9277-1C4EA5CBD9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AC26-8C6F-43C1-8E3E-2A461F048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360" y="198072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9302-102E-48BD-8759-53443CAD0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9A7A-DBA2-4932-8AFE-D60215A48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12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B9B6-3A9D-46F3-8241-D093184FF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360" y="198072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45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814B-4995-4844-9CF7-7008AD724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19807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360" y="41245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A5B5-4037-4926-A618-42B15342B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198072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452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DD23-9743-4960-80A0-36ED23B27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8320" indent="-328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4320" indent="-271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DB7C6-1DA4-440C-A1F0-6A47FFEBF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430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pperplate Gothic Bold"/>
              </a:rPr>
              <a:t>PBL</a:t>
            </a: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50292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for the 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pperplate Gothic Bold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838080"/>
            <a:ext cx="22096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2233440" cy="2962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914400" y="1600200"/>
            <a:ext cx="5486400" cy="3657600"/>
          </a:xfrm>
          <a:prstGeom prst="roundRect">
            <a:avLst>
              <a:gd name="adj" fmla="val 4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List and begin to develop your </a:t>
            </a:r>
            <a:r>
              <a:rPr b="1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major group product(s)</a:t>
            </a:r>
            <a:r>
              <a:rPr b="1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List and begin to develop your </a:t>
            </a:r>
            <a:r>
              <a:rPr b="1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major individual product(s)</a:t>
            </a:r>
            <a:r>
              <a:rPr b="1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List the </a:t>
            </a:r>
            <a:r>
              <a:rPr b="1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Presentation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Create a list of project rub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Begin to develop your project rub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52480" y="762120"/>
            <a:ext cx="56772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86200" y="13716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tting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718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ning &amp; Prep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53341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d6decf"/>
                </a:solidFill>
                <a:latin typeface="Calibri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581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d6decf"/>
                </a:solidFill>
                <a:latin typeface="Calibri"/>
              </a:rPr>
              <a:t>Reflect Per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68480" y="3886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d6decf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Planning and Prep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38080"/>
            <a:ext cx="38098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3733920"/>
            <a:ext cx="3504960" cy="2971800"/>
          </a:xfrm>
          <a:prstGeom prst="foldedCorner">
            <a:avLst>
              <a:gd name="adj" fmla="val 12500"/>
            </a:avLst>
          </a:prstGeom>
          <a:solidFill>
            <a:srgbClr val="b9d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3733920"/>
            <a:ext cx="36576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try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lminating products/rub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aching &amp; learn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iv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udent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ject calendar/check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range/create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3049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Best practices </a:t>
            </a: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in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762120"/>
            <a:ext cx="5410080" cy="75960"/>
          </a:xfrm>
          <a:prstGeom prst="rect">
            <a:avLst/>
          </a:prstGeom>
          <a:solidFill>
            <a:srgbClr val="991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9320"/>
            <a:ext cx="708660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rich descriptors of</a:t>
            </a:r>
            <a:r>
              <a:rPr b="1" lang="en-US" sz="2000" spc="-1" strike="noStrike">
                <a:solidFill>
                  <a:srgbClr val="bb88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iteria for yo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 students with assessment crite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the 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 exemplars of quality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formative assessments to give timely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pture process as well as product (e.g., work folders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nd, as a schoo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common, calibrated rubrics; establish school-w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iteria for gr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91320" y="152280"/>
            <a:ext cx="31334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2" name=""/>
          <p:cNvCxnSpPr/>
          <p:nvPr/>
        </p:nvCxnSpPr>
        <p:spPr>
          <a:xfrm>
            <a:off x="2590560" y="3505320"/>
            <a:ext cx="4343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" name=""/>
          <p:cNvCxnSpPr>
            <a:stCxn id="74" idx="2"/>
            <a:endCxn id="75" idx="0"/>
          </p:cNvCxnSpPr>
          <p:nvPr/>
        </p:nvCxnSpPr>
        <p:spPr>
          <a:xfrm>
            <a:off x="4776840" y="2565360"/>
            <a:ext cx="24480" cy="213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6" name=""/>
          <p:cNvCxnSpPr/>
          <p:nvPr/>
        </p:nvCxnSpPr>
        <p:spPr>
          <a:xfrm flipH="1">
            <a:off x="2971080" y="1979640"/>
            <a:ext cx="3810600" cy="2821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/>
          <p:nvPr/>
        </p:nvCxnSpPr>
        <p:spPr>
          <a:xfrm>
            <a:off x="2895480" y="2057040"/>
            <a:ext cx="3813840" cy="289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228600" y="4572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A critical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14400"/>
            <a:ext cx="350532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95280" y="16765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oup Ta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05040" y="502920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ividual 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58200" y="32767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c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8400" y="320040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ss Foc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entury Skills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9280" y="55767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73480" y="14479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mm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92960" y="16765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f &amp; Peer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9560" y="49528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cher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68880" y="1906560"/>
            <a:ext cx="86544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352680" y="2743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65640" y="3352680"/>
            <a:ext cx="174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ed P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665440" y="4421160"/>
            <a:ext cx="865080" cy="60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471920" y="1700280"/>
            <a:ext cx="609840" cy="86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495680" y="4697280"/>
            <a:ext cx="609840" cy="865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2182680" y="3200400"/>
            <a:ext cx="86544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6629400" y="3200400"/>
            <a:ext cx="86508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2666880" y="1905120"/>
            <a:ext cx="86544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6197760" y="4367160"/>
            <a:ext cx="60948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3808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ubrics </a:t>
            </a: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in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38080"/>
            <a:ext cx="26668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371600"/>
            <a:ext cx="76960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rubric for each major product i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e rubrics (or rows) for cont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nowledge/skills and 21st century skill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lists and rubrics – there is a big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24480" y="228600"/>
            <a:ext cx="2562480" cy="2336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3808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Grading in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838080"/>
            <a:ext cx="26668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752480"/>
            <a:ext cx="693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ve a grade for each product, not one gr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the whol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x of individual and group gr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parate grades for content and 2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entu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315200" y="196920"/>
            <a:ext cx="1895400" cy="18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3808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Disaggreg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38080"/>
            <a:ext cx="365760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209680"/>
            <a:ext cx="1371600" cy="609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209680"/>
            <a:ext cx="1371600" cy="609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2209680"/>
            <a:ext cx="1371600" cy="609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2209680"/>
            <a:ext cx="1371600" cy="609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2209680"/>
            <a:ext cx="1371600" cy="609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81952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281952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81952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281952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281952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42900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342900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342900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42900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342900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20968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 Eth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220968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ten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2209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22194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32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Nick P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517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Rick Lop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28954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12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28954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22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28954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21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28954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18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505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25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3505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15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505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18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3505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25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934320" y="380880"/>
            <a:ext cx="1895400" cy="18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895760" cy="1860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ys to asses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914400"/>
            <a:ext cx="4952880" cy="7632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90720" y="1143000"/>
            <a:ext cx="7011720" cy="4443480"/>
            <a:chOff x="990720" y="1143000"/>
            <a:chExt cx="7011720" cy="4443480"/>
          </a:xfrm>
        </p:grpSpPr>
        <p:sp>
          <p:nvSpPr>
            <p:cNvPr id="142" name=""/>
            <p:cNvSpPr/>
            <p:nvPr/>
          </p:nvSpPr>
          <p:spPr>
            <a:xfrm>
              <a:off x="3425760" y="4824360"/>
              <a:ext cx="45752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ournal, log, written report / ref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24360"/>
              <a:ext cx="24350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-solv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25760" y="3333600"/>
              <a:ext cx="457524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 l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ily / weekly goal she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me lo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ritten ref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0720" y="3333600"/>
              <a:ext cx="243504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ject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5760" y="1903320"/>
              <a:ext cx="457524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elf repor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 journal, log, surv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eer repor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 survey or written ref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eacher note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 observation checklist, meetings with lea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720" y="1903320"/>
              <a:ext cx="243504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abo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5760" y="1143000"/>
              <a:ext cx="45752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sessment metho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991827"/>
                  </a:solidFill>
                  <a:latin typeface="Times New Roman"/>
                </a:rPr>
                <a:t>(along with a rubric)</a:t>
              </a:r>
              <a:r>
                <a:rPr b="1" lang="en-US" sz="2000" spc="-1" strike="noStrike">
                  <a:solidFill>
                    <a:srgbClr val="991827"/>
                  </a:solidFill>
                  <a:latin typeface="Times New Roman"/>
                </a:rPr>
                <a:t>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90720" y="1143000"/>
              <a:ext cx="24350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century sk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90720" y="1143000"/>
              <a:ext cx="7010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90720" y="1903320"/>
              <a:ext cx="7010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90720" y="3333600"/>
              <a:ext cx="7010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4824360"/>
              <a:ext cx="7010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90720" y="5584680"/>
              <a:ext cx="7010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0720" y="1143000"/>
              <a:ext cx="1440" cy="444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25760" y="1143000"/>
              <a:ext cx="1800" cy="44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01000" y="1143000"/>
              <a:ext cx="1440" cy="444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3808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Examining th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762120"/>
            <a:ext cx="3886200" cy="75960"/>
          </a:xfrm>
          <a:prstGeom prst="rect">
            <a:avLst/>
          </a:prstGeom>
          <a:solidFill>
            <a:srgbClr val="8a1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37160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Review of Sample Rubrics 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ollab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ka Bauer</dc:creator>
  <dc:description/>
  <dc:language>en-US</dc:language>
  <cp:lastModifiedBy>David Ross</cp:lastModifiedBy>
  <cp:revision>0</cp:revision>
  <dc:subject/>
  <dc:title>PowerPoint Presentation  -  Title Here</dc:title>
</cp:coreProperties>
</file>